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34680" y="1041120"/>
            <a:ext cx="89917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iblia cuenta la historia de un hombre que estaba herido y sin ropa, tirado al lado del cami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hombres pasaron por allí y ninguno de ellos paro para ayud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ro hombre pasó y lo ayudó. Lo llevó a un hotel y pago para que lo cuidar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r un héroe de Dios es hacer lo que Dios haría por 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35040" y="609120"/>
            <a:ext cx="9144000" cy="861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nque parece que sólo la gente famosa hace cosas importantes en el mundo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realidad es que son los hijos de Dios, los que muestran su amor a todos, los que de verdad cambian el mundo todos los dí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s hijos de Dios que hacen lo que el haría por otros, son la gente más importante en el mu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hijos de Dios somos importa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34680" y="304920"/>
            <a:ext cx="9296280" cy="914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hablamos de cambiar el mundo, no quiere decir que vamos a cambiar las leyes o la forma cómo pasan las cos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aprendimos se puede cambiar el mundo haciendo pequeñas cosas para hacer feliz a la g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biar el mundo puede ser cambiar la vida de alguien, no tiene que ser cambiar a todo el mu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quiero cambiar la vida de alguien con el amor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8360" y="3276360"/>
            <a:ext cx="9068040" cy="328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a gente más importante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del mund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58720" y="1270080"/>
            <a:ext cx="91440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vamos a hablar de súper héro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34680" y="1270080"/>
            <a:ext cx="899172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y que hacer varias cosas para ser un súper héro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o, hay que tener algún poder espe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gundo, hay que usar ese poder para ayudar a 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ay que ser valiente y no te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58720" y="1155600"/>
            <a:ext cx="9144000" cy="75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mbién para ser un súper héroe hay que tener herramientas que nos ayudan a hacer cosas difíci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o para ser un súper héroe no hay que tener uniforme o cap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a ser un súper héroe no hay que ser famoso ni tener un enemi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verdaderos súper héroes no son famos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35040" y="1270080"/>
            <a:ext cx="91440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verdad es que los verdaderos súper héroes no se ven por televis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viven en países lejos o tienen mucho dine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 iglesia de Dios hay muchos súper héro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súper héroes de Dios son gente como tú y como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34680" y="1270080"/>
            <a:ext cx="899172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Qué es ser un súper héroe para D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y que ser valiente y no te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y que tener un súper pod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 súper poder de los héroes de Dios es el AMO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34680" y="1270080"/>
            <a:ext cx="89154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s súper héroes de Dios también utilizan su poder, el amor de Dios, para ayudar a 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iblia que el “poder” del amor viene de Dios porque Dios es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s súper héroes de Dios no destruyen a sus enemigos, los perdonan y le dan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súper héroes de Dios perdon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35040" y="990720"/>
            <a:ext cx="9067680" cy="779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tiene muchos héroes alrededor del mundo, porque Dios aprecia las cosas pequeñas que hacem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aprecia las cosas que hacemos por personas que necesitan ayuda o necesit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aprecia cuando trabajamos mucho para hacer algo lo mejor que podem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Quiero ser un héroe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0:15:09Z</dcterms:created>
  <dc:creator/>
  <dc:description/>
  <dc:language>en-US</dc:language>
  <cp:lastModifiedBy>Freddy Fernandez</cp:lastModifiedBy>
  <dcterms:modified xsi:type="dcterms:W3CDTF">2013-02-28T16:04:28Z</dcterms:modified>
  <cp:revision>12</cp:revision>
  <dc:subject/>
  <dc:title>Slide 1</dc:title>
</cp:coreProperties>
</file>